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36661" descr="图片1000"/>
          <p:cNvPicPr/>
          <p:nvPr/>
        </p:nvPicPr>
        <p:blipFill>
          <a:blip r:embed="rId3"/>
          <a:stretch/>
        </p:blipFill>
        <p:spPr>
          <a:xfrm>
            <a:off x="3457440" y="739800"/>
            <a:ext cx="4810320" cy="285840"/>
          </a:xfrm>
          <a:prstGeom prst="rect">
            <a:avLst/>
          </a:prstGeom>
          <a:ln w="0">
            <a:noFill/>
          </a:ln>
        </p:spPr>
      </p:pic>
      <p:sp>
        <p:nvSpPr>
          <p:cNvPr id="38" name="矩形 536644"/>
          <p:cNvSpPr/>
          <p:nvPr/>
        </p:nvSpPr>
        <p:spPr>
          <a:xfrm>
            <a:off x="3510000" y="773280"/>
            <a:ext cx="106200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矩形 536650"/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4"/>
          <p:cNvSpPr/>
          <p:nvPr/>
        </p:nvSpPr>
        <p:spPr>
          <a:xfrm>
            <a:off x="4608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矩形 536665"/>
          <p:cNvSpPr/>
          <p:nvPr/>
        </p:nvSpPr>
        <p:spPr>
          <a:xfrm>
            <a:off x="5724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矩形 536666"/>
          <p:cNvSpPr/>
          <p:nvPr/>
        </p:nvSpPr>
        <p:spPr>
          <a:xfrm>
            <a:off x="6840360" y="773280"/>
            <a:ext cx="87948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68675"/>
          <p:cNvSpPr/>
          <p:nvPr/>
        </p:nvSpPr>
        <p:spPr>
          <a:xfrm>
            <a:off x="1101600" y="1994040"/>
            <a:ext cx="694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圆柱的体积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2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015809"/>
          <p:cNvSpPr/>
          <p:nvPr/>
        </p:nvSpPr>
        <p:spPr>
          <a:xfrm>
            <a:off x="254160" y="1698480"/>
            <a:ext cx="9180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择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计算一个游泳池的最大完全容水量是求游泳池的（  ）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表面积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容积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侧面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形零件的体积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2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立方厘米，底面积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8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方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这个零件的高是（  ）厘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8                B.4                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法解答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文本框 1015812"/>
          <p:cNvSpPr/>
          <p:nvPr/>
        </p:nvSpPr>
        <p:spPr>
          <a:xfrm>
            <a:off x="6916680" y="2159280"/>
            <a:ext cx="89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文本框 1015813"/>
          <p:cNvSpPr/>
          <p:nvPr/>
        </p:nvSpPr>
        <p:spPr>
          <a:xfrm>
            <a:off x="2840040" y="3670560"/>
            <a:ext cx="89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031169"/>
          <p:cNvSpPr/>
          <p:nvPr/>
        </p:nvSpPr>
        <p:spPr>
          <a:xfrm>
            <a:off x="254160" y="155592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这个杯子（  ）装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毫升的牛奶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能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能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法判断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1" name="图片 1031173" descr=""/>
          <p:cNvPicPr/>
          <p:nvPr/>
        </p:nvPicPr>
        <p:blipFill>
          <a:blip r:embed="rId1"/>
          <a:stretch/>
        </p:blipFill>
        <p:spPr>
          <a:xfrm>
            <a:off x="3168720" y="2131920"/>
            <a:ext cx="2278080" cy="261936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031174"/>
          <p:cNvSpPr/>
          <p:nvPr/>
        </p:nvSpPr>
        <p:spPr>
          <a:xfrm>
            <a:off x="2112840" y="1511640"/>
            <a:ext cx="955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030145"/>
          <p:cNvSpPr/>
          <p:nvPr/>
        </p:nvSpPr>
        <p:spPr>
          <a:xfrm>
            <a:off x="254160" y="147312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法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容器最多能装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升，那么它的体积也就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升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高扩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，体积就扩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。 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的底面半径缩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，高扩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，这个圆柱的体积不变。 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文本框 1030150"/>
          <p:cNvSpPr/>
          <p:nvPr/>
        </p:nvSpPr>
        <p:spPr>
          <a:xfrm>
            <a:off x="7758000" y="2438640"/>
            <a:ext cx="105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文本框 1030151"/>
          <p:cNvSpPr/>
          <p:nvPr/>
        </p:nvSpPr>
        <p:spPr>
          <a:xfrm>
            <a:off x="5370480" y="2934000"/>
            <a:ext cx="105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文本框 1030152"/>
          <p:cNvSpPr/>
          <p:nvPr/>
        </p:nvSpPr>
        <p:spPr>
          <a:xfrm>
            <a:off x="1014480" y="3949920"/>
            <a:ext cx="105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028097"/>
          <p:cNvSpPr/>
          <p:nvPr/>
        </p:nvSpPr>
        <p:spPr>
          <a:xfrm>
            <a:off x="250920" y="188280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计算下面圆柱的体积。（单位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1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196.2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圆柱的体积为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96.2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8" name="图片 1028099" descr=""/>
          <p:cNvPicPr/>
          <p:nvPr/>
        </p:nvPicPr>
        <p:blipFill>
          <a:blip r:embed="rId1"/>
          <a:stretch/>
        </p:blipFill>
        <p:spPr>
          <a:xfrm>
            <a:off x="5214960" y="2409840"/>
            <a:ext cx="16066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043457"/>
          <p:cNvSpPr/>
          <p:nvPr/>
        </p:nvSpPr>
        <p:spPr>
          <a:xfrm>
            <a:off x="252360" y="1092240"/>
            <a:ext cx="8620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个圆柱形水果饼干盒，底面直径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这个饼干盒所占空间有多大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6=117.7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饼干盒所占空间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17.7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给饼干盒的侧面包一圈商标纸，需要商标纸的面积是多少平方厘米？（得数保留整数，接头处不计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5×6=94.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厘米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需要商标纸的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1051649"/>
          <p:cNvSpPr/>
          <p:nvPr/>
        </p:nvSpPr>
        <p:spPr>
          <a:xfrm>
            <a:off x="195120" y="190332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完全一样的圆柱，连接成一个大圆柱，长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表面积减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.5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方厘米。原来每个圆柱的体积是多少立方厘米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.56÷4×12÷3=12.56(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厘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原来每个圆柱的体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.5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052673"/>
          <p:cNvSpPr/>
          <p:nvPr/>
        </p:nvSpPr>
        <p:spPr>
          <a:xfrm>
            <a:off x="195120" y="178452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个油罐，底面周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2.8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每立方米可容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吨，这个油罐可装油多少吨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2.8÷2÷3.14=1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3.14×4=125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56×0.7=879.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吨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油罐可装油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79.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吨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053697"/>
          <p:cNvSpPr/>
          <p:nvPr/>
        </p:nvSpPr>
        <p:spPr>
          <a:xfrm>
            <a:off x="195120" y="167004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个零件的形状如图所示，你能求出它的体积吗？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2×2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+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÷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62.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它的体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2.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13" name="组合 1053700"/>
          <p:cNvGrpSpPr/>
          <p:nvPr/>
        </p:nvGrpSpPr>
        <p:grpSpPr>
          <a:xfrm>
            <a:off x="5353200" y="2916360"/>
            <a:ext cx="2460600" cy="2119320"/>
            <a:chOff x="5353200" y="2916360"/>
            <a:chExt cx="2460600" cy="2119320"/>
          </a:xfrm>
        </p:grpSpPr>
        <p:sp>
          <p:nvSpPr>
            <p:cNvPr id="114" name="矩形 1053699"/>
            <p:cNvSpPr/>
            <p:nvPr/>
          </p:nvSpPr>
          <p:spPr>
            <a:xfrm>
              <a:off x="5353200" y="2916360"/>
              <a:ext cx="245448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15" name="图片 1053701" descr=""/>
            <p:cNvPicPr/>
            <p:nvPr/>
          </p:nvPicPr>
          <p:blipFill>
            <a:blip r:embed="rId1"/>
            <a:stretch/>
          </p:blipFill>
          <p:spPr>
            <a:xfrm>
              <a:off x="5353200" y="2916360"/>
              <a:ext cx="2460600" cy="21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77000"/>
          <p:cNvSpPr/>
          <p:nvPr/>
        </p:nvSpPr>
        <p:spPr>
          <a:xfrm>
            <a:off x="254160" y="1996920"/>
            <a:ext cx="8619840" cy="20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圆柱转化成长方体后，长方体的高是圆柱的（   ），长方体的底面积是圆柱的（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的体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文本框 377033"/>
          <p:cNvSpPr/>
          <p:nvPr/>
        </p:nvSpPr>
        <p:spPr>
          <a:xfrm>
            <a:off x="6607080" y="2921400"/>
            <a:ext cx="1098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文本框 377034"/>
          <p:cNvSpPr/>
          <p:nvPr/>
        </p:nvSpPr>
        <p:spPr>
          <a:xfrm>
            <a:off x="2154240" y="3429360"/>
            <a:ext cx="2422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底面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文本框 377035"/>
          <p:cNvSpPr/>
          <p:nvPr/>
        </p:nvSpPr>
        <p:spPr>
          <a:xfrm>
            <a:off x="1770120" y="3937320"/>
            <a:ext cx="374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底面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737282"/>
          <p:cNvSpPr/>
          <p:nvPr/>
        </p:nvSpPr>
        <p:spPr>
          <a:xfrm>
            <a:off x="264960" y="209232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个圆柱的底面积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方分米，高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，这个圆柱的体积是多少立方分米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5×2.4=3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分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圆柱的体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分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024001"/>
          <p:cNvSpPr/>
          <p:nvPr/>
        </p:nvSpPr>
        <p:spPr>
          <a:xfrm>
            <a:off x="254160" y="1628640"/>
            <a:ext cx="8619840" cy="25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三</a:t>
            </a: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P18 T11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个圆柱形油桶，从里面量，底面直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高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它的容积是多少升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升柴油重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8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克，这个油桶可装柴油多少千克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做这样一个油桶，至少需要铁皮多少平方分米？（得数保留一位小数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012737"/>
          <p:cNvSpPr/>
          <p:nvPr/>
        </p:nvSpPr>
        <p:spPr>
          <a:xfrm>
            <a:off x="311040" y="109548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50=628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28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厘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62.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升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2.8×0.85=53.3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克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2+3.14×40×50=879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79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厘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87.9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分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8.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分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它的容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2.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升。能装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3.3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克的柴油。做这样一个油桶，至少需要铁皮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8.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分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046529"/>
          <p:cNvSpPr/>
          <p:nvPr/>
        </p:nvSpPr>
        <p:spPr>
          <a:xfrm>
            <a:off x="254160" y="152100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三</a:t>
            </a: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P19 </a:t>
            </a: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思考题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一个圆柱形储水桶里，把一段底面半径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圆柱形钢材全部放入水中，这时水面上升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。把这段钢材竖着拉出水面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水面下降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。求这段钢材的体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5×5×8÷4×9=141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厘米）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段钢材的体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41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025025"/>
          <p:cNvSpPr/>
          <p:nvPr/>
        </p:nvSpPr>
        <p:spPr>
          <a:xfrm>
            <a:off x="254160" y="154620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转化法巧解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把一个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圆柱完全浸没在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宽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装满水的容器内。再把这个圆柱拿出来后，发现水面下降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你知道这个圆柱的底面积是多大吗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×8×3=24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厘米）   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0÷8=3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圆柱的底面积为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1027073"/>
          <p:cNvSpPr/>
          <p:nvPr/>
        </p:nvSpPr>
        <p:spPr>
          <a:xfrm>
            <a:off x="204840" y="175248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把一个底直径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圆柱铁块放入一个底半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圆柱形容器里，水面上升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求这个圆柱铁块的体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1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3=94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圆柱铁块的体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4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014785"/>
          <p:cNvSpPr/>
          <p:nvPr/>
        </p:nvSpPr>
        <p:spPr>
          <a:xfrm>
            <a:off x="254160" y="145404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的底面积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方厘米，高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这个圆柱的体积是（    ）立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底面半径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圆柱转化为长方体后，长方体的表面积比圆柱的表面积大（   ）平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圆柱的底面半径扩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，高扩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，这个圆柱的体积扩大了（  ）倍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文本框 1014805"/>
          <p:cNvSpPr/>
          <p:nvPr/>
        </p:nvSpPr>
        <p:spPr>
          <a:xfrm>
            <a:off x="604800" y="2921400"/>
            <a:ext cx="117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文本框 1014806"/>
          <p:cNvSpPr/>
          <p:nvPr/>
        </p:nvSpPr>
        <p:spPr>
          <a:xfrm>
            <a:off x="4317840" y="3924720"/>
            <a:ext cx="901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文本框 1014807"/>
          <p:cNvSpPr/>
          <p:nvPr/>
        </p:nvSpPr>
        <p:spPr>
          <a:xfrm>
            <a:off x="1297080" y="4940640"/>
            <a:ext cx="631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29:41Z</dcterms:created>
  <dc:creator>世纪金榜</dc:creator>
  <dc:description/>
  <dc:language>en-US</dc:language>
  <cp:lastModifiedBy>admin</cp:lastModifiedBy>
  <dcterms:modified xsi:type="dcterms:W3CDTF">2018-01-22T00:32:53Z</dcterms:modified>
  <cp:revision>1315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